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EC8A-087F-49F0-8598-2C905C1959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4ACC-1938-438F-B749-1ED8C839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7A0A-8122-4349-BA53-60A580C1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3CCE-9614-4EBF-8AD1-CADA30D04B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293D-4494-49A8-9521-5F343C78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C7E10-2A5E-44E7-9EEE-717E8647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2893F-4936-4912-8832-A3816B2A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FE858-DDDC-474E-BB2B-3F5A75A5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57FE-014B-4633-BD9A-5975DD35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CF13-70AB-4DA5-9101-63442B51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26E7-B8A1-4EFE-80D3-A0BAEF55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D2B45-2108-4637-831B-4E06C86D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AAD1-9C93-437B-981B-F7916923399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第五节  吞咽功能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360" y="1844280"/>
            <a:ext cx="4038480" cy="4527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：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涎，唇闭合无力，鼓腮不能，构音障碍，舌无力影响咀嚼，吞咽后口内有食物残留，分次吞咽，仰头吞咽、低头吞咽，口阶段吞咽延迟，咽反射异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16000" y="1701720"/>
            <a:ext cx="4038840" cy="4524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吞咽障碍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唾液在口咽部聚集，不能咽下，需定期吐出，主咳嗽反射减弱、声音减弱或不能自主咳嗽，分次吞咽，吞咽延迟，结构上提幅度降低，无效吞咽作，咽下困难，鼻反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900000" y="1916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评定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解患者是否存在吞咽障碍，发生吞咽障碍的可能病因，找出吞咽过程中存在的解剖和生理异常，为制订康复治疗方案提供客观依据。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，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99640" y="2276280"/>
            <a:ext cx="7272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检查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服药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营养状态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00000" y="1988640"/>
            <a:ext cx="80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功能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唇的运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颌的位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软腭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喉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2133720"/>
            <a:ext cx="7407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反复唾液吞咽试验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冷按摩引发吞咽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饮水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摄食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06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饮水测试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得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内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一次饮完，但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能一次饮完，但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以上饮完，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呛咳多次发生，全部饮完有困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判断标准：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正常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可疑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以上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971640" y="148428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器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荧光透视检查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VFS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表面肌电图检查 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MG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钡造影检查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超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3CDE-CE72-4A7C-A238-B57F15C75F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描述吞咽障碍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不同颅神经损伤对吞咽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饮水试验对脑卒中后吞咽障碍患者进行康复评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2124000" y="2562120"/>
            <a:ext cx="489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吞咽障碍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--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92000" y="2357280"/>
            <a:ext cx="756144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dysphagia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食物从口腔运送到胃的过程中出现障碍的一种表现。是一种常见的临床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99640" y="2060640"/>
            <a:ext cx="737244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整个吞咽过程分为五个阶段 ：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行期（认知期）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准备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129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吞咽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9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092720" cy="4616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2700360" y="599508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阶段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71560" y="1844280"/>
            <a:ext cx="740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三叉神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面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咽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迷走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下神经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吞咽有关的神经支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71560" y="1557360"/>
            <a:ext cx="7516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按有无解剖结构异常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器质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根据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结构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神经源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精神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55640" y="2349360"/>
            <a:ext cx="7408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根据发生吞咽障碍的阶段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: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1:07Z</dcterms:modified>
  <cp:revision>1</cp:revision>
  <dc:subject/>
  <dc:title>  第三章  康复护理评价</dc:title>
</cp:coreProperties>
</file>